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28440"/>
        <c:axId val="39689855"/>
      </c:barChart>
      <c:catAx>
        <c:axId val="10228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89855"/>
        <c:crosses val="autoZero"/>
        <c:auto val="1"/>
        <c:lblAlgn val="ctr"/>
        <c:lblOffset val="100"/>
        <c:noMultiLvlLbl val="0"/>
      </c:catAx>
      <c:valAx>
        <c:axId val="39689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28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D99B-99F4-47F1-9644-E2B075E7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6433-0556-493E-BF8A-804B5637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D2E2-DC0A-4BA8-B255-562ED390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5842-D4B3-4D14-9B92-6FA52343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4472-7313-4462-AA9D-1FAFFFAE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F83-686E-46CB-B8E1-DB0AB176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1B9-345D-4811-A5A9-FAA1799A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0FD9-0182-4F98-B678-CBD543D0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BDA-9D8F-4CE8-93F8-DAFDA362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F170-669A-43CA-BAE9-0A0A2EC5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351B-1402-4E8B-9CC6-FBBB5C9D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D26-1E93-490A-96C9-C4A4660B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6F1D6-B006-42A6-9FAC-51FB0DE905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