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cccc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ör operativmiljön Solar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86</a:t>
            </a:r>
            <a:br>
              <a:rPr sz="18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ör dina MS-DOS- och Windows-program på Int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80880" y="152388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55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ge för operativmiljön Solaris x86 kombinerar kraften hos Solaris- och MS-DOS- eller Windows-miljö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5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 Merge har de som använder Solaris x86 tillgång till tusentals färdiga MS-DOS-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5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ge stöder också fler Microsoft Windows-program än de som finns i Wab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programvarans certifierade 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129280" y="3057480"/>
            <a:ext cx="39574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 informa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m Merge, ring 512/434-1511, tryck på 2. Eller gå till World Wide Web på: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un.com/sunsoft/Products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-Integration-produ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129280" y="4984920"/>
            <a:ext cx="373392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ör att beställ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ge, ring 512/434-1511, tryck på 2. Eller kontakta närmast Apple-återförsälj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129280" y="1584360"/>
            <a:ext cx="383544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S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erge finns bara på engelska men stöder lokaliserade versioner av MS-DOS, Microsoft Windows och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